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2C9-F840-419D-A075-6C4AEEEF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169-C60A-4D3C-AB40-74092852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E2B-1625-43D1-894B-03C7AF0F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A01-FADD-4E25-AB1A-94C1AE53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AD0E-5885-411B-9BCD-EA9F1E4A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2B53-F24B-4484-8DC7-397DA64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7B09-0FD6-46C1-A703-0307636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FEF-FD0D-4DB8-BADD-79F4BCF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E284-67A3-495C-A291-E565153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95FC-ED3C-49B8-81B8-5232587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BB7F-CD95-4ED1-BFE8-FB158B6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96B-DE9B-43D6-9267-A680ECBA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97DD-78A3-4B67-91F9-4E5F6B92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02A8-3E46-4190-9034-BE52FDB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E922-0AFF-48AB-A66B-05B0D2D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D5F5-5203-41FD-B252-CAF279B7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DFD-E0B0-4FD0-AA6C-DDD06C1E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1CF-0172-4600-A725-FBD8A6B7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5F1-879D-47B8-8AF8-8E52C214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98C-148B-4962-A1EB-18170F0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55D-D5CA-439C-8F70-5EE31136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100-C121-4FA2-85E3-008B9A6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8F6-8D5E-4DB3-B6BD-46DF960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4C8-1978-4C5B-A677-9EFE878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FF7-ACC9-4907-859C-CF5379086AF9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6B4D-1EEC-44BA-A34F-3ECF3A42816E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" Target="slide9.xml"/><Relationship Id="rId5" Type="http://schemas.openxmlformats.org/officeDocument/2006/relationships/slide" Target="slide2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BJ_3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E03166_" descr=""/>
          <p:cNvPicPr/>
          <p:nvPr/>
        </p:nvPicPr>
        <p:blipFill>
          <a:blip r:embed="rId3"/>
          <a:stretch/>
        </p:blipFill>
        <p:spPr>
          <a:xfrm>
            <a:off x="533520" y="2590920"/>
            <a:ext cx="2939760" cy="383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066680" y="990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Good friend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095880" y="30492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elf introductio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5943600" y="1981080"/>
            <a:ext cx="2819520" cy="685800"/>
          </a:xfrm>
          <a:custGeom>
            <a:avLst/>
            <a:gdLst>
              <a:gd name="textAreaLeft" fmla="*/ 44280 w 2819520"/>
              <a:gd name="textAreaRight" fmla="*/ 2775240 w 2819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8769" h="21600">
                <a:moveTo>
                  <a:pt x="0" y="0"/>
                </a:moveTo>
                <a:lnTo>
                  <a:pt x="88769" y="0"/>
                </a:lnTo>
                <a:lnTo>
                  <a:pt x="88769" y="21600"/>
                </a:lnTo>
                <a:lnTo>
                  <a:pt x="0" y="21600"/>
                </a:lnTo>
                <a:close/>
              </a:path>
              <a:path fill="lightenLess" w="88769" h="21600">
                <a:moveTo>
                  <a:pt x="0" y="0"/>
                </a:moveTo>
                <a:lnTo>
                  <a:pt x="88769" y="0"/>
                </a:lnTo>
                <a:lnTo>
                  <a:pt x="87369" y="1400"/>
                </a:lnTo>
                <a:lnTo>
                  <a:pt x="1400" y="1400"/>
                </a:lnTo>
                <a:close/>
              </a:path>
              <a:path fill="darken" w="88769" h="21600">
                <a:moveTo>
                  <a:pt x="88769" y="0"/>
                </a:moveTo>
                <a:lnTo>
                  <a:pt x="88769" y="21600"/>
                </a:lnTo>
                <a:lnTo>
                  <a:pt x="87369" y="20200"/>
                </a:lnTo>
                <a:lnTo>
                  <a:pt x="87369" y="1400"/>
                </a:lnTo>
                <a:close/>
              </a:path>
              <a:path fill="darkenLess" w="88769" h="21600">
                <a:moveTo>
                  <a:pt x="88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369" y="20200"/>
                </a:lnTo>
                <a:close/>
              </a:path>
              <a:path fill="lighten" w="88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New    wor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5715000" y="57913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anguage poin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5943600" y="3581280"/>
            <a:ext cx="2666880" cy="1067040"/>
          </a:xfrm>
          <a:custGeom>
            <a:avLst/>
            <a:gdLst>
              <a:gd name="textAreaLeft" fmla="*/ 69120 w 2666880"/>
              <a:gd name="textAreaRight" fmla="*/ 2597760 w 26668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’s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5560" y="609480"/>
            <a:ext cx="835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. Opposite of modern is c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 If you like doing something, you a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____ of doing it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.Now we usually make fire with a lighter ,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ut in the past  people make fire with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1.A friend is a m______, because he or sh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let us know about ourselves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A film is a m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Throw a stone means c_____ a sto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2080" y="60948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assic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9880" y="17208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n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86760" y="33526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atch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4840" y="38862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irror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0280" y="49975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5040" y="55627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a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6858000" y="2286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68580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go on living, escape being killed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A place where there are no people is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________ plac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They are look for an e-pal, that is to say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y’re h_______ for a friend on the lin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 The noun form of sorry is s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 “To have the same interest or feeling a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omeone else”means to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for example like---s ___ a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193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rvi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000" y="23302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sert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5880" y="342900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unting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9600" y="39625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rrow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48560" y="50734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9040" y="5638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uch  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8520" y="609480"/>
            <a:ext cx="8202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. An exciting or dangerous journey  is a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__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 Write someone a short letter mean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_____ someone a l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. A  friend on the internet is an e-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4. They are afraid of something , “afraid ”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s s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0440" y="114300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adventur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3840" y="2787480"/>
            <a:ext cx="44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drop                        lin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9280" y="33526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e-p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5880" y="446400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care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cast%20away1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4451400" cy="510552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655308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096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Hank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70120" y="464832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T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5920" y="4876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WAY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castaway1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572680" cy="571500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68580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astaway2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715520" cy="514368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6172200" y="4495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8280" y="5791320"/>
            <a:ext cx="72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lve the problem of lonelines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astaway6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7772400" cy="518148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655308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castaway7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" action="ppaction://hlinkshowjump?jump=firstslide"/>
          </p:cNvPr>
          <p:cNvSpPr/>
          <p:nvPr/>
        </p:nvSpPr>
        <p:spPr>
          <a:xfrm>
            <a:off x="7696080" y="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1840" y="601992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Hunt for something to ea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4680" y="838080"/>
            <a:ext cx="36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best design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000" y="16002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6000" y="251460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000" y="33526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3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6000" y="40384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4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20040" y="472428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5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20080" y="167652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6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4120" y="236232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7.B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20440" y="3200400"/>
            <a:ext cx="97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8.C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20080" y="4038480"/>
            <a:ext cx="10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9.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8769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10.A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62940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65600" y="838080"/>
            <a:ext cx="296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ost read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9240" y="1676520"/>
            <a:ext cx="86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1. how to collect water, hunt for foo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nd make fi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760" y="3429000"/>
            <a:ext cx="834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2.He realizes friendship is importan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He realizes that he hasn’t been a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good friend……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655308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xjmap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7388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6629400" y="54864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4320" y="1166760"/>
            <a:ext cx="9268200" cy="545652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Noland, a successful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usinessman,lands on a_______ island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fter a plane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Chuck has to learn basic survival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kills on the island. __ ____ __ do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oneliness, he _______ a friendship wit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 volleyball _____ Wilson and _____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t as a real frie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22320" y="190512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59092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0560" y="380988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order t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99320" y="4495680"/>
            <a:ext cx="21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5181480"/>
            <a:ext cx="15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600" y="510552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at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520" y="609480"/>
            <a:ext cx="9403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years’ life on the island teache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uck the importance of having friend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being a good friend. He know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should ______ happiness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__.Friends should _____ an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uch as they _____from each other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also learned that he _____have care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____ his friends.So in some way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 are __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6668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ar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352680"/>
            <a:ext cx="17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orrow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327672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gi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240" y="396252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ak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120" y="4648320"/>
            <a:ext cx="167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should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5257800"/>
            <a:ext cx="142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about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0200" y="601992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eachers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18000" y="1523880"/>
            <a:ext cx="917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riends and unusual friends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important in our life.Friend and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iendship help us understand ___ we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and how we should _____.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760" y="289548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68160" y="3581280"/>
            <a:ext cx="17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ehave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6477120" y="53341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520" y="0"/>
            <a:ext cx="8381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anguage points in Unit 1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goodness, wort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a ma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f fine qualit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material is poor qualit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hon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not telling l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nest e-pa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loyal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true and faithfu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 loyal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b./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oyal supporter of the Par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arg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quarrel   argu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about/over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gue with s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argued with the waiter about the price of th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a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6629400" y="42670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99440" y="781200"/>
            <a:ext cx="8758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5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lve the problem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 work out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he way of solving the proble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either side can find any solution to an argumen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 that.../ such …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+ adj. /adv.  so good/smart/loyal.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   such boys/material/e-pals/such a b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ch a adj.+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busy a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o adj. a +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单数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a busy 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o many/much/little/fe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such adj.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名词复数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不可数名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ch funny stories   such good weat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655308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8240" y="663480"/>
            <a:ext cx="9201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The box is ___ heavy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_____heavy is the box that nobody can lift it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hese are ____ small shoes that I can’t put them on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It is ____ fine weather that we will go swimm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It was ___ a lovely day that we decided to go hiking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.The Smiths have ______ many children that the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their own basketball team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63760" y="65412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7240" y="1066680"/>
            <a:ext cx="7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560" y="26208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640" y="2133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10040" y="160020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57960" y="31240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uc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-12960" y="89208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so…that…/so th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…that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此…以致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此，所以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了，以便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order that, in order to 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hard-working a boy is he that he always gets hig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is ___ hard-working that he always gets high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rks in all subject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so that we could catch the first 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left early ___ ____ ____we could catch the fir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2160" y="3809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8880" y="522612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in order tha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647712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6440" y="816120"/>
            <a:ext cx="889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/neither/no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头的倒装结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/neither 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助动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语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一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也不一样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t center school last year, and so was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riend Bob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tudy hard, and so ____ my brother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can finish it in time,so___ w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go to the cinema tonight, so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f you don’t go to the cinema tonight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didn’t see him, neither ____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7120" y="32004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oe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5040" y="370188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22080" y="41911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i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2280" y="469260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hal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5040" y="514980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firstslide"/>
          </p:cNvPr>
          <p:cNvSpPr/>
          <p:nvPr/>
        </p:nvSpPr>
        <p:spPr>
          <a:xfrm>
            <a:off x="6324480" y="55627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-15840" y="739800"/>
            <a:ext cx="9472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it is /was with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ohn has gone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is with Mary.(=so has Mary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ke didn’t attend the meeting, and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 it was with I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=neither did I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’s father was a good worker, and worked very hard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 it was with Jack’s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态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助动词  “的确如此”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Tomorrow will be Mon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So it wil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， 是星期一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5943600" y="52578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" y="5486400"/>
            <a:ext cx="160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-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DD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71880" y="5486400"/>
            <a:ext cx="155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6-10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BB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4320" y="5410080"/>
            <a:ext cx="15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1-15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BDA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-12600" y="762120"/>
            <a:ext cx="913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7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ike/love/enjo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fon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be interested in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(doing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think …is ok/interesting/boring/terrib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come fond of him---be beginning to like him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8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urvive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escape being killed, go on living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rvival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last surviving member of the famil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survive 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feed on/ live o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9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st Aw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be left away on an island after your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ip has sunk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st—throw    cast a ne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64008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Monotype Corsiva"/>
              </a:rPr>
              <a:t>Warmly Welcome to Our School 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Hello ,everyone 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Peary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My Chinese name is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Zhang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000099"/>
                </a:solidFill>
                <a:latin typeface="Tahoma"/>
                <a:ea typeface="方正舒体"/>
              </a:rPr>
              <a:t>Meixiang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(</a:t>
            </a:r>
            <a:r>
              <a:rPr b="0" lang="zh-CN" sz="2800" spc="-1" strike="noStrike">
                <a:solidFill>
                  <a:srgbClr val="545472"/>
                </a:solidFill>
                <a:latin typeface="华文楷体"/>
                <a:ea typeface="华文楷体"/>
              </a:rPr>
              <a:t>张美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m very glad to be your English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eacher.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’d like to be your friend, to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From now on, we’ll study together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I hope we can help and learn from each othe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  <a:ea typeface="方正舒体"/>
              </a:rPr>
              <a:t>Thank you very much. 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6" name="peary1" descr=""/>
          <p:cNvPicPr/>
          <p:nvPr/>
        </p:nvPicPr>
        <p:blipFill>
          <a:blip r:embed="rId12"/>
          <a:stretch/>
        </p:blipFill>
        <p:spPr>
          <a:xfrm>
            <a:off x="6172200" y="1600200"/>
            <a:ext cx="2365200" cy="3505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6172200" y="56386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2640" y="228600"/>
            <a:ext cx="8914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0.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play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man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named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t as /play the part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 man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with the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uck Nolan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.so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usy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that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as little time for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oo busy t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have any time to stay with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anage to do sth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s on a fligh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is fly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o on board the plane/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-get on the plane/the ship/trai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ras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n. vi. --fall/drop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ash into the tre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car crash                    an aircraft crash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6477120" y="49528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685800"/>
            <a:ext cx="86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5.deserted island--- on an island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without peo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/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ere there are no peo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 deserted village/island/templ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sert n. v.    in the desert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6.hunt for---search for/look fo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7.challeng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mething difficult that you have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8.in order to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so as to do/in order that sb can do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19.develop a friendship---- make a friendship bett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0.realise/realize---- come to know, make sth tru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realize his own danger          realize one’s hope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73200" y="871560"/>
            <a:ext cx="818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1.have been thinking about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现在完成进行时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表示动作从过去某时开始， 一直延续到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在并有可能延续下去。它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lways, often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等连用时表示重复动作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om yesterday, he has been reading the novel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Hi, Tracy, you look tired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I am tired. I ______ the living room all da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. painted                      B. had painte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. have been painting   D. have paint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2.treat …a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regard …as, look on …. As      treatment(n.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92680" y="762120"/>
            <a:ext cx="8814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3.share happiness and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---to have the same happiness and unhappines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----to have the same feeling or intere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s someone els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(in) something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et’s share, you have half and I have half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something with sb.    share the cost with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are my troubles and joy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ake my share of the co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to one’s great sorrow/surprise/joy…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look at sb. in sorrow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43520" y="914400"/>
            <a:ext cx="8385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4.care about ---take care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on’t care to do something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否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care for—like be fon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25.should have cared more about his friend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 have done 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应该做而没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houldn’t have done(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过去不该做而做了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hat a pity! He should _____ ________ (solve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problem. Otherwise he can’t be busy now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We should _____ _______ (cast) awa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the useless things last week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5400" y="380988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olve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4724280"/>
            <a:ext cx="16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s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533520"/>
            <a:ext cx="8077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6.give as much as we ta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7.such as--- for example/ lik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8.adventure--- a long walk in the count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ve an adventure in Afric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 adventure stor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9.scared—afrai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of (doing)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-- be afraid of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e scared to do something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0.like joking around---like making jok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1.drop me a line---write me a short letter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rite a short letter tom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435760" y="76320"/>
            <a:ext cx="47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A sample e-mail(Page 6)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880" y="1066680"/>
            <a:ext cx="8937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 Jane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y name is Xiao Fei and I come from Hunan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unan is in the south of china. I am a middle schoo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student and like speaking English.I read your e-pal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d and I would like to be your e-pal.You wrote tha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 rock music. Can you tell me what band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 like? Have you ever heard any Chinese rock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bands? You also wrote that you like talking an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joking around.I do too! I think you and can be good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. Please send me an e-mail as soon as possible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Xi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29400" y="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Exercise 3 in Page 87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8120" y="914400"/>
            <a:ext cx="897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Dear aunt,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Hi! I have made many friends at my school. W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Are getting along very well. But one day one of my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s lost 100 yuan. He thought I had taken hi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money and he told others about it. They are not as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friendly to me as they were before. I’m very unhappy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need your help. Can you give me some advice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Yours,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Gao Fei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49320" y="-95400"/>
            <a:ext cx="9190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9" name="chinaadmimap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38680" y="3886200"/>
            <a:ext cx="12956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380880" y="5335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map1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8229600" cy="55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2556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29800">
            <a:off x="6946560" y="475776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304920" y="304920"/>
            <a:ext cx="2286000" cy="99036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9848" h="21600">
                <a:moveTo>
                  <a:pt x="0" y="0"/>
                </a:moveTo>
                <a:lnTo>
                  <a:pt x="49848" y="0"/>
                </a:lnTo>
                <a:lnTo>
                  <a:pt x="49848" y="21600"/>
                </a:lnTo>
                <a:lnTo>
                  <a:pt x="0" y="21600"/>
                </a:lnTo>
                <a:close/>
              </a:path>
              <a:path fill="lightenLess" w="49848" h="21600">
                <a:moveTo>
                  <a:pt x="0" y="0"/>
                </a:moveTo>
                <a:lnTo>
                  <a:pt x="49848" y="0"/>
                </a:lnTo>
                <a:lnTo>
                  <a:pt x="48448" y="1400"/>
                </a:lnTo>
                <a:lnTo>
                  <a:pt x="1400" y="1400"/>
                </a:lnTo>
                <a:close/>
              </a:path>
              <a:path fill="darken" w="49848" h="21600">
                <a:moveTo>
                  <a:pt x="49848" y="0"/>
                </a:moveTo>
                <a:lnTo>
                  <a:pt x="49848" y="21600"/>
                </a:lnTo>
                <a:lnTo>
                  <a:pt x="48448" y="20200"/>
                </a:lnTo>
                <a:lnTo>
                  <a:pt x="48448" y="1400"/>
                </a:lnTo>
                <a:close/>
              </a:path>
              <a:path fill="darkenLess" w="49848" h="21600">
                <a:moveTo>
                  <a:pt x="49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48" y="20200"/>
                </a:lnTo>
                <a:close/>
              </a:path>
              <a:path fill="lighten" w="49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7160" y="762120"/>
            <a:ext cx="72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   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urf the Internet,table tenni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200" y="3809880"/>
            <a:ext cx="729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like/enjoy/lov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fond of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am into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My hobbies/ interests are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 … is interesting/boring/terrible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2120" y="2587680"/>
            <a:ext cx="794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Times New Roman"/>
              </a:rPr>
              <a:t>Dislikes</a:t>
            </a: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: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oises, go shopping, play card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with my son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6440" y="2025720"/>
            <a:ext cx="60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some TV plays ,classic music…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07640" y="141588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news, cigarette(sometimes) ,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6324480" y="457200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Would you please answer me some questions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1. Where are you from?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4" name="PE03166_" descr=""/>
          <p:cNvPicPr/>
          <p:nvPr/>
        </p:nvPicPr>
        <p:blipFill>
          <a:blip r:embed="rId2"/>
          <a:stretch/>
        </p:blipFill>
        <p:spPr>
          <a:xfrm>
            <a:off x="6858000" y="3809880"/>
            <a:ext cx="1889280" cy="2467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V="1">
            <a:off x="990720" y="5397120"/>
            <a:ext cx="621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280" y="5181480"/>
            <a:ext cx="6200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5. What do you think of Songgang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Middle School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0000" y="4724280"/>
            <a:ext cx="62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4. Are you living a happy life now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9720" y="3733920"/>
            <a:ext cx="61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3. How many people are there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in your    family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960" y="2743200"/>
            <a:ext cx="707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2. Which part of Xingjiang  do you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live in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0720" y="3200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9. How can you learn  English well?       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2" name="BS00554_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429000" cy="2230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66680" y="914400"/>
            <a:ext cx="69343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6. Do you have any friends, what do you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think of them?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0200" y="2057400"/>
            <a:ext cx="52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7.  Do you like English? Why?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14120" y="25909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8. What are your likes and dislikes?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1219320" y="4495680"/>
            <a:ext cx="2286000" cy="1143000"/>
          </a:xfrm>
          <a:custGeom>
            <a:avLst/>
            <a:gdLst>
              <a:gd name="textAreaLeft" fmla="*/ 73800 w 2286000"/>
              <a:gd name="textAreaRight" fmla="*/ 2212200 w 2286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229680" y="723960"/>
            <a:ext cx="964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doesn’t like telling lies, he 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f someone is not afraid of danger, we say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b_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true and faithful , not turning against l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If an old man is bright we call him a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____ man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opposite of  ugly(for man)  h______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f a boy is clever , we say he is s_____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“Work out a problem” means s______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.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120" y="12952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ones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4640" y="23623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bra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46320" y="28954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loyal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7600" y="40384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wis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7160" y="457200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960" y="510552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mart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67520" y="563868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olve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6858000" y="5867280"/>
            <a:ext cx="2286000" cy="990720"/>
          </a:xfrm>
          <a:custGeom>
            <a:avLst/>
            <a:gdLst>
              <a:gd name="textAreaLeft" fmla="*/ 64080 w 2286000"/>
              <a:gd name="textAreaRight" fmla="*/ 2221920 w 2286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9830" h="21600">
                <a:moveTo>
                  <a:pt x="0" y="0"/>
                </a:moveTo>
                <a:lnTo>
                  <a:pt x="49830" y="0"/>
                </a:lnTo>
                <a:lnTo>
                  <a:pt x="49830" y="21600"/>
                </a:lnTo>
                <a:lnTo>
                  <a:pt x="0" y="21600"/>
                </a:lnTo>
                <a:close/>
              </a:path>
              <a:path fill="lightenLess" w="49830" h="21600">
                <a:moveTo>
                  <a:pt x="0" y="0"/>
                </a:moveTo>
                <a:lnTo>
                  <a:pt x="49830" y="0"/>
                </a:lnTo>
                <a:lnTo>
                  <a:pt x="48430" y="1400"/>
                </a:lnTo>
                <a:lnTo>
                  <a:pt x="1400" y="1400"/>
                </a:lnTo>
                <a:close/>
              </a:path>
              <a:path fill="darken" w="49830" h="21600">
                <a:moveTo>
                  <a:pt x="49830" y="0"/>
                </a:moveTo>
                <a:lnTo>
                  <a:pt x="49830" y="21600"/>
                </a:lnTo>
                <a:lnTo>
                  <a:pt x="48430" y="20200"/>
                </a:lnTo>
                <a:lnTo>
                  <a:pt x="48430" y="1400"/>
                </a:lnTo>
                <a:close/>
              </a:path>
              <a:path fill="darkenLess" w="49830" h="21600">
                <a:moveTo>
                  <a:pt x="4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430" y="20200"/>
                </a:lnTo>
                <a:close/>
              </a:path>
              <a:path fill="lighten" w="4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ack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2:35:49Z</dcterms:created>
  <dc:creator>sgzx</dc:creator>
  <dc:description/>
  <dc:language>en-US</dc:language>
  <cp:lastModifiedBy>sgzx</cp:lastModifiedBy>
  <dcterms:modified xsi:type="dcterms:W3CDTF">2003-09-11T07:12:53Z</dcterms:modified>
  <cp:revision>48</cp:revision>
  <dc:subject/>
  <dc:title>PowerPoint 演示文稿</dc:title>
</cp:coreProperties>
</file>